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880" y="38779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292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832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076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588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832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076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95400" y="241200"/>
            <a:ext cx="709128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292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1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2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3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4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5" marL="173160" indent="-17316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6" marL="173160" indent="-17316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pic>
        <p:nvPicPr>
          <p:cNvPr id="2" name="Picture 33" descr="app"/>
          <p:cNvPicPr/>
          <p:nvPr/>
        </p:nvPicPr>
        <p:blipFill>
          <a:blip r:embed="rId2"/>
          <a:stretch/>
        </p:blipFill>
        <p:spPr>
          <a:xfrm>
            <a:off x="-4680" y="-9360"/>
            <a:ext cx="9148680" cy="977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34" descr="app"/>
          <p:cNvPicPr/>
          <p:nvPr/>
        </p:nvPicPr>
        <p:blipFill>
          <a:blip r:embed="rId3"/>
          <a:stretch/>
        </p:blipFill>
        <p:spPr>
          <a:xfrm>
            <a:off x="-4680" y="992160"/>
            <a:ext cx="9148680" cy="98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7" descr="logo_hidrografico_br_rgb"/>
          <p:cNvPicPr/>
          <p:nvPr/>
        </p:nvPicPr>
        <p:blipFill>
          <a:blip r:embed="rId4"/>
          <a:stretch/>
        </p:blipFill>
        <p:spPr>
          <a:xfrm>
            <a:off x="136440" y="93600"/>
            <a:ext cx="1727280" cy="773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8" descr="app"/>
          <p:cNvPicPr/>
          <p:nvPr/>
        </p:nvPicPr>
        <p:blipFill>
          <a:blip r:embed="rId5"/>
          <a:stretch/>
        </p:blipFill>
        <p:spPr>
          <a:xfrm>
            <a:off x="-9360" y="6581880"/>
            <a:ext cx="7481880" cy="79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" name="Picture 39" descr=""/>
          <p:cNvPicPr/>
          <p:nvPr/>
        </p:nvPicPr>
        <p:blipFill>
          <a:blip r:embed="rId6"/>
          <a:stretch/>
        </p:blipFill>
        <p:spPr>
          <a:xfrm>
            <a:off x="7480440" y="6232680"/>
            <a:ext cx="12888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99d"/>
                </a:solidFill>
                <a:latin typeface="Tahoma"/>
              </a:rPr>
              <a:t>IALA Questionnaire 2011 (M2)</a:t>
            </a:r>
            <a:br>
              <a:rPr sz="2800"/>
            </a:br>
            <a:r>
              <a:rPr b="1" lang="en-US" sz="2800" spc="-1" strike="noStrike">
                <a:solidFill>
                  <a:srgbClr val="00599d"/>
                </a:solidFill>
                <a:latin typeface="Tahoma"/>
              </a:rPr>
              <a:t>[2010 data]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3789360"/>
            <a:ext cx="8569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Victor Conceição – Hydrographic instit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Jorge Teles – Lighthouses Authority (P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99d"/>
                </a:solidFill>
                <a:latin typeface="Tahoma"/>
              </a:rPr>
              <a:t>santos.teles@marinha.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Arlindo Santos – Lighthouses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44000" cy="521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14960" y="5877000"/>
            <a:ext cx="318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gis.hidrografico.pt/ial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Sound Sign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Mo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Bells and gongs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1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8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68840" indent="-452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3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Whistle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9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68840" indent="-452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3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og horns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8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8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4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68840" indent="-452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9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Sound sign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2" name="Rectangle 3"/>
          <p:cNvGraphicFramePr/>
          <p:nvPr/>
        </p:nvGraphicFramePr>
        <p:xfrm>
          <a:off x="324000" y="1006560"/>
          <a:ext cx="8640720" cy="55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06560"/>
                    <a:ext cx="864072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8:27:50Z</dcterms:created>
  <dc:creator>field</dc:creator>
  <dc:description/>
  <dc:language>en-US</dc:language>
  <cp:lastModifiedBy>Divisão Navegação - NS</cp:lastModifiedBy>
  <dcterms:modified xsi:type="dcterms:W3CDTF">2012-05-16T00:36:44Z</dcterms:modified>
  <cp:revision>36</cp:revision>
  <dc:subject/>
  <dc:title>Slide 1</dc:title>
</cp:coreProperties>
</file>